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wmf" ContentType="image/x-wmf"/>
  <Override PartName="/ppt/media/image30.jpeg" ContentType="image/jpe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7A2A-8B0A-4197-8BB3-2786F1A2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4871-07FD-4BCB-9F02-307B8DD49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46A9-8C34-40AC-8A96-4AC04944A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4794-D1A9-4E96-81A0-5D082A3BE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B634-531C-47B3-9ADB-2CE5EDCFD2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237F-4AFB-4A01-B1AD-99F280EFB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4D0B-8E34-436C-A5FB-59E116EEB6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D242-18EA-496E-87DA-368966BACF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0230-6C0D-4628-B90D-DE9716E1AD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DEA6-EC99-4C40-B7F2-C3724121C0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069A-4F82-4669-A3B0-6FDA8F3BE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79C6-EB83-4EFA-AA8F-990DDAA1A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6077-8F1F-448F-8F56-196452C85A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28B3-449C-4742-8488-DD89622C09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FE2F-6B0F-4DE1-A697-6378183EC4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50B1-8A9C-4F56-8C36-B72F75EE22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37D7-079E-47E6-A4FB-04184BADE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8AE0-4339-4E6F-8018-4B91FF0E8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7DDD-8A15-443A-9851-2501BE527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9A58-27C8-4D0D-9F31-9B05177C6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1023-98CC-4B97-AFE5-29C6DE1AD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276F-2297-4672-A1D6-909D02124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0EA7-5358-4087-BC51-0E18FF557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7F93-A8DC-42F4-9F55-BE976EA91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2CD1-C66F-4D3A-86EE-1D2C9B0D1300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D6B1-4BDC-4B17-BEDF-FE4E385A223D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oc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y are made in a variety of ways, but …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2178-1EC9-4E4D-BBB5-6971C77B51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C158-1857-441E-A530-F09DFDB4E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DEAA-9A0F-4853-847D-00F4C52FC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edimentary rocks are the only one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at may have plant or animal remains trapped in the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etamorphic and igneous rocks were too hot or too squashed to allow them to surv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79640" y="3357720"/>
            <a:ext cx="4298400" cy="3200040"/>
            <a:chOff x="1979640" y="3357720"/>
            <a:chExt cx="4298400" cy="320004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979640" y="3357720"/>
              <a:ext cx="429840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979640" y="3357720"/>
              <a:ext cx="4298400" cy="320004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BA7A-3B9C-4C53-93A5-8DBBC6337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may enter cracks in rock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 areas where the temperature falls below the freezing point of water, the water will turn into ice when it is cold enoug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expands as it freez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ce now exerts pressure on the walls of the crack, pushing them further apart and widening the crack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ver time, the crack becomes wider and the rock may break apar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413400" y="981000"/>
            <a:ext cx="2170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C5A0-439B-4120-9644-4D982172C9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hanges in temperature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anges in temperature cause the surface of the rock to expand and contract more than the interior of the rock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weakens the rock and causes cracks to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3276360" cy="129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4284720" y="4869000"/>
            <a:ext cx="32767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04E6-27FD-4112-8250-F8126C57A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75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lant roots and animal burrows can destabilise rock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chen that grows on rock surfaces gradually wears it awa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076720" y="1484280"/>
            <a:ext cx="352764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F01B-D7C8-4A33-9712-8201B8F5E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weathering occurs when rocks are exposed to wa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nfall is naturally acidic due to the carbon dioxide dissolved in i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reactions taking place between the water and the rock cause the rock to break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771640" y="3500280"/>
            <a:ext cx="4327560" cy="28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B934-61E8-42A6-91D2-5F21153EEB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ree types of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07544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gneous: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65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tamorphic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7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dimentary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8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49400" y="3189240"/>
          <a:ext cx="6929280" cy="3659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189240"/>
                    <a:ext cx="69292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B9DA-D12F-4D6E-88CC-DB5DD42ED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1066680"/>
          <a:ext cx="8458200" cy="556128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gneous or metamorphic or sedimentary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How they were form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ppearanc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sandstone, limestone, chalk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mall pieces of sediment were stuck together by salt and pressure from rocks ab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sually soft, can contain fossils, easily erod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basalt, grani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Liquid rock (magma or lava) cooled down and turned back into a sol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ontain crystals, very hard, never contain fossil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marble, sla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Other rocks were acted on by heat and pressure over a long 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ometimes have tiny crystals, no fossils, always hard and sometimes arranged in layer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609480" y="586728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34340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590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E3B1-745A-4DB5-AA09-C6166DEB05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ck cycle describes the perpetual recycling of minerals by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athering and erosion processes on the surfac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ransport and deposition processes involving water, ice, waves or wi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ock creation and transformation involving crust and tectonic process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ndscape creation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E149-049B-4C25-B82F-E1098232CE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m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AEAC-FEEC-4830-90EA-6825238C44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578B-1519-4C5C-A9EF-2196B8BF9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a bit easier to understan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B493-0FF3-4EBC-9CC7-E13186208C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14300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are the 3 types of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type of rock are the following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Sandstone, limestone, granite, basalt, sla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type of rock would a mountain probably be made out of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are the two conditions needed for a metamorphic rock t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form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ich metamorphic rock is formed from limeston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y wouldn’t you find any fossils in igneous or metamorphic rock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You find a rock containing crystals.  What type of rock would it mos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is molten rock that is inside the Earth calle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is molten rock that is outside the Earth (i.e. erupted) called?</a:t>
            </a:r>
            <a:r>
              <a:rPr b="0" lang="en-US" sz="2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A27E-AD33-4B65-87B6-BC09CFA4B4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14300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ame one example of phys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Name one example of biolog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cid rain is an example of chemical weathering.  What poisonous gas (given off by car exhausts and power stations) causes acid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Granite is an igneous rock and contains large crystals.  Did it cool down slowly or quick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In the rock cycle what causes igneous rock to become sedimentary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In the rock cycle again what causes the sedimentary rock to become metamorphic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ravestones are usually made out of marble or granite instead of limestone or sandstone.  Wh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A piece of rock contains layers.  What type of rock would i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B0B4-4058-4E0C-BFF4-00A2F30A2F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174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178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181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6986-549F-48AA-AA3F-3DAC83D3F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2BAF-E67D-4E66-8713-C6ECA71D7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igneous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they were formed they were a liqui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were very hot rock that originally came from the magma at the centre of the earth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escaped from the mantle they began to coo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 the surface (where the liquid rock is called lava) they cool quickly and like toffee do not have crystals in it but they are very har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magma pushed in between layers of other rocks, away from the surface, they cool slowl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contain crystals, very hard, never contain fossils (because there were no living things in the mantle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7250-AE5B-41AC-B335-831A6B7BC1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197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46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49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57C3-5EE3-40F4-AD47-00D25BA8BD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85AB-66A2-4AF9-95C9-A33C082EE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metamorphic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were made from other rocks were acted on by heat and pressure over a long tim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times have tiny crystals, no fossils because any remaining animal and plant bits would have been cooked in the process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always hard and sometimes arranged in lay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B16B-D108-4C75-ADAF-7148318F61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72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275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278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0A10-C443-4DB7-947D-F490587686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13:21Z</dcterms:created>
  <dc:creator>Lindy</dc:creator>
  <dc:description/>
  <dc:language>en-US</dc:language>
  <cp:lastModifiedBy>Lindy</cp:lastModifiedBy>
  <dcterms:modified xsi:type="dcterms:W3CDTF">2008-12-15T11:53:17Z</dcterms:modified>
  <cp:revision>9</cp:revision>
  <dc:subject/>
  <dc:title>Ro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